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3B8-AB84-432D-A06C-F1D17DEC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689-3FCF-4351-9352-9EA87DAD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DCB-9357-4E56-8400-19D7971B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D23-53F8-4A32-B3DE-4483A397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6FC-E877-45DF-B40D-ED11013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60A-199A-4767-AB38-69BF88CD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37B-78B6-41FC-8A2E-5941F758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FDE-FB32-46EA-98D2-1D0CF23D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277-CC17-4D61-803C-739B1EC5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A66-1B68-4D0D-953E-7F205189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896-E89C-4B26-910E-F4E69BF3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BE6-5A74-479E-AEC5-5B4157DC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6779-49D0-4DF4-8BB2-51B44B0F21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Calibri"/>
              </a:rPr>
              <a:t>Innovative Entrepreneurship</a:t>
            </a:r>
            <a:br>
              <a:rPr sz="4400"/>
            </a:b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- Pulling on Both Oars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of Pauric McGow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University of Ul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Changing Face of Innovation and Entrepreneurship-Policy Persp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6999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 greater commitment to and integration of both is crucial for economic recovery in current times,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breu et al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licies need to be sensitive to the existing structures, cultures and competitive strengths of regions/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re is a need to consider policies with respect to innovation and entrepreneurship tha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re comprehensi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o beyond R&amp;D, Technology Transfer (TT) and New Product Development (NPD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courages innovation in processes and practic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corporates services as well as go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requires a commitment to a wider interpretation of what we mean by ‘innovative practices’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breu et al 2011, FORFAS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hort-Falls of ‘Innovative Entrepreneurship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cording to different research sources there is currently a need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creased contributions from Public and Private Research Organis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re joined-up thinking from central gover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re encouragement, including additional tax breaks for those engaging in risk-taking to grow ven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ntrol over the level of evalu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re disruptive innovation but a greater commitment to wider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asier access to appropriate levels of funding in recognition of the often high-cost of innovation particularly for S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make available a world-class ICT infrastru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Various stakeholders to encourage greater entrepreneurial endeavour to exploit innovative endeavour, challenge the status-quo and to think glob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urray et al (2009), FORFAS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9280" y="1197000"/>
          <a:ext cx="8785440" cy="4824360"/>
        </p:xfrm>
        <a:graphic>
          <a:graphicData uri="http://schemas.openxmlformats.org/drawingml/2006/table">
            <a:tbl>
              <a:tblPr/>
              <a:tblGrid>
                <a:gridCol w="615960"/>
                <a:gridCol w="968400"/>
                <a:gridCol w="881280"/>
                <a:gridCol w="615960"/>
                <a:gridCol w="761760"/>
                <a:gridCol w="844560"/>
                <a:gridCol w="854280"/>
                <a:gridCol w="811080"/>
                <a:gridCol w="809640"/>
                <a:gridCol w="811080"/>
                <a:gridCol w="81144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preneurship Poli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Mode One Innov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Mode Two innov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Mode Three innov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ers policies for pre and early stage activity, (questions however around coherency and extent of policies and in fostering the nexus between I and 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mphasises needs of manufacturing indust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Key focus is on R&amp;D and TT 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Key focus is on TT 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Innovation takes place within a system, many players, recognises demand-driven innov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Recognises importance of open innovation and the service sec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Supports a triple helix, HEIs/Research Centres, business and policy-mak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Encourages innovation in the public and third secto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Importance of developing social capital, networks tru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omoting appropriate culture for innov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ern Ir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Ire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n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ess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</a:t>
                      </a: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GB" sz="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        </a:t>
                      </a:r>
                      <a:r>
                        <a:rPr b="0" lang="en-GB" sz="8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alibri"/>
              </a:rPr>
              <a:t>Insights to Differences Between NI, RoI and Fin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Key Considerations about “innovative entrepreneurship” moving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o re-evaluate the over emphasis on technological innovation and R&amp;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o introduce greater flexibility into the targeting of innovation expendi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o recognise for example, the importance of the services sector in developed economies and in terms of encouraging innovation and greater entrepreneurial endeav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o enhance physical infrastructure , particularly in telecoms, of the importance in knowledge-intensive service indus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o build, thoughtfully at the HEI/Busine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o consider the scope for innovative entrepreneurial practice within the public and third s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o be sensitive to the peculiar circumstances of regions/countries, one size does not fit 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o recognise the importance of global markets in stimulating export-led growth in the SME sector and to developing a knowledge-based or “smart” econo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To build some coherency into policies at the I&amp;E nexus, particularly around investment fu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7:31:55Z</dcterms:created>
  <dc:creator> Pauric McGowan</dc:creator>
  <dc:description/>
  <dc:language>en-US</dc:language>
  <cp:lastModifiedBy>DIT</cp:lastModifiedBy>
  <dcterms:modified xsi:type="dcterms:W3CDTF">2011-10-26T07:29:31Z</dcterms:modified>
  <cp:revision>35</cp:revision>
  <dc:subject/>
  <dc:title>Slide 1</dc:title>
</cp:coreProperties>
</file>